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CC1-D8FB-4C86-AC5B-BAACE544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F55-98B3-4378-9B0D-DA570758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1E1-6DE7-475E-8D20-F2EF50E6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1B4E-9987-40BD-A3D9-D687AFC0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F71F-B6B0-4DA6-B2CE-5B0D9047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E531-F1AD-4937-9475-F7026045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8AD2-EF0D-4A12-AC94-30468EA9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E102-2918-4133-A17B-2FE1115A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C7A5-C533-434E-9EF7-E82609B8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D90E-75DF-4CA7-807C-37509141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C99B-29CA-42B2-AC6D-799F1BFC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85C-87A9-416E-BD1E-E3A0E5D0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3ED6-1997-4ADA-8572-EE72189E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C695-08DE-4BBE-93EA-9A0BC7EB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31E0-C4DD-4C90-9D98-8C34B1C3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C2C2-B583-485F-B60A-173E80D1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4D6E-ED95-4664-9555-D1907353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454-08E1-4C72-A5B5-1745CC7D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F90-F0B9-4012-B41A-1531AC64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9BFA-7F6B-41A9-8F3E-185448BD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A92-108B-405A-8634-7EBCB75D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DCA-7A93-4596-B6A4-A2E41106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58E-3FD5-4306-B07E-5FFE9DD8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F40C-153F-4FCE-99EC-F00F5AF9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C319-0643-4290-9073-7E20813AE4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E748-27DD-4275-95D3-0F3CFCE89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Go Tell The Good News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Part 1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11, Lesson 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s 15; Gal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84-9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ason For The Circumcision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ports During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solution From This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umcision cannot be forced upon anyone for sal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ere immediate moral issues that should concern Christ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Conference in Jerusal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ouble Arises From With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wish Christians Began Teaching That Gentiles Must First Enter A Covenant With God By Circum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tile Christians Were Challenged On The Issue of Their Salvation in Chr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Circumcision Essential To Salv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sue is the focus of the great discussion in Acts 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 Conference After The 1st Missionary Journey of Paul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43000" y="1538280"/>
            <a:ext cx="6629400" cy="5319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7905600" y="3733920"/>
            <a:ext cx="1238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D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8-49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828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llow the Nu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ossible Chronology of Acts 15 And Galatians 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eting About The Issue of Circumc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and Barnabas attended together – (Acts 15:2; Gal. 2: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Accompanied By Others – (Acts 15:2; Gal. 2: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raveled From Syria – (Acts 14:26-28; Gal. 1: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nt To Jerusalem For This Meeting – (Acts 15:2-4; Gal. 2: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ossible Chronology of Acts 15 And Galatians 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eting About The Issue of Circumc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Faced Opposition From Jewish Christians At Jerusalem – (Acts 15:5; Gal. 2:3-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ostles Met – (Acts 15:5-29; Gal. 2:6-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minent Part Was Taken By Peter – (Acts 15:7-11, 14; Gal. 2:7-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mes Also Took Part – (Acts 15:12-21; Gal. 2: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Reported on His Mission to Gentiles and defends it – (Acts 15:4, 12; Gal. 2: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ch Discussion Ensued – (Acts 15:6-7; Gal. 2:6, 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ossible Chronology of Acts 15 And Galatians 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eting About The Issue of Circumc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ostles Drew A Necessary Conclusion – (Acts 15:25-29; Gal. 2:7-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and Barnabas Continued Their Work – (Acts 15:27-29; Gal. 2:7-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ew Requirements Expounded For Gentile Converts – (Acts 15:28f; Gal. 2: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and Barnabas Returned To Antioch – (Acts 15:30; Gal. 2:11-1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ossible Chronology of Acts 15 And Galatians 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eting About The Issue of Circumc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and Barnabas Have A Parting of the Ways – (Acts 15:39; Gal. 2:1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ason For The Circumcision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 The Judaizer’s Claim Against The Evidence of Confirmed Gospel and O.T. Prophe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ports During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and Barnabas’ work among Gentiles never revealed it as being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ter’s door-opening experience among the Gentiles did not require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mes’ look at predictive prophecy in A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20:00:04Z</dcterms:created>
  <dc:creator>Gateway Client</dc:creator>
  <dc:description/>
  <dc:language>en-US</dc:language>
  <cp:lastModifiedBy>Frank D Vines</cp:lastModifiedBy>
  <dcterms:modified xsi:type="dcterms:W3CDTF">2007-03-01T00:32:22Z</dcterms:modified>
  <cp:revision>11</cp:revision>
  <dc:subject/>
  <dc:title>Go Tell The Good News Part 1</dc:title>
</cp:coreProperties>
</file>